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8037-159D-4F9C-A242-F644D6880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85F9-C1E7-494B-A0DD-B0F4CD1B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DAC80-FE45-48CD-909C-F06FF167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1FA8B-9E73-4DCE-A6CA-13E02BD0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C7F98-1D19-4CA9-9224-3500F724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84649D-A8D1-41EE-B7E6-60701BD7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8F4793-2497-4CAD-8995-86E86595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69C76C-1FF6-4E2F-99F9-E550580B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2C9F71-6D3A-481E-936D-D0AAF151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1242C-09A6-4BB4-86D2-A95001201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7B1FBD-EDC3-4DBA-B51E-385FA2829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0CFB6-A01F-43A9-9172-0765C5FD9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D829-A12F-48D5-A56E-C369038D3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8A9C6-D664-4149-90F7-AA6FFAB1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EEAFD6-30E3-4C4F-8CC1-1CAE47D7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FE1503-A981-4307-AA44-C9C753D6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1DA9C3-8202-4B3B-A8CF-67AEDD8A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45D73B-0EBE-4123-8979-142EE463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D77E96-F452-4B56-821C-7916436D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D6DB35-F3B7-46D7-9C6C-15AFDCB9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5381E-17C6-46C5-AD4D-F849E2E3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E4413-EBAB-4864-BC11-12F8FCB3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8570C0-77C0-42C9-99E3-EC6B0521E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2446-69C2-474E-A52C-3F1D1E772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1137B-8735-45ED-8305-47BC4AB2E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4A9E5-101B-4B35-A061-2F5FF80BC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98FF1-A686-4253-B447-5849C2B7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64C70-C9DD-4865-87DD-B0F5BA37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584E2-2B0C-498C-8693-2B056250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692BE-1BE5-4BF7-8294-09DD2180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E4E7F-E4D4-4A3E-A6BD-280CE158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6C00D-6004-47AF-9318-B5500C04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30621-1789-46AA-A12F-08DFF94C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3F5DE-1EE3-42F8-92FE-7E42A6C7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E574-52C6-46E7-8ED9-0A5E3523D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65BA7-FDF6-47F8-8E92-FA919CC1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763AC-398E-423A-9293-E27808816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55756-FF8F-4500-B5A7-DFD1B65CF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D1EE37-59D7-403E-80E9-D47AF6EB1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F1E3EC-CC32-433C-A4BA-058F5A5B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0E292B-776E-49EA-ABDD-693FEEA7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AC6091-7C0B-4A44-B7D1-B693577C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E7B906-3786-4A74-A7F4-8F511D52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C40DAE-E4FE-43D0-A07F-A49E62B6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9D3E0D-9FD3-4FC2-B445-4E266E67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477B-F256-4E83-B1BB-4AC0604D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D0D1F5-2325-49CF-995A-50D62582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3756F4-3D55-45CE-BEF3-3086BC4F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A0B107-7B79-431E-ABF0-A43AF76E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46D1ED-2F91-4768-BBBE-54E12F399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66F597-F75A-4A3C-A211-C63CBACE4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55C2-54D8-4516-A408-BB575AD6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3CAF-4813-4F1D-BA35-21BF22ED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68FC-A9F8-4C24-9101-8E8BAAD8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B5D0-8DB3-4E6D-BA0A-AD7FD737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7DF2-6931-4E90-8EE7-0EEB61A0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4E3C-1CA6-4BA8-8BE0-7A2BC8AD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5337-6798-4952-A3E6-93369F74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DE17-B53E-41FF-BB19-874DA1AF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FC4E-9441-4A2E-8EDE-979B5D87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68C4-9BDE-4259-AAB6-C002C15E7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1C52-D8BA-4E39-9453-6B91D5185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DFEE2-B187-4A78-89D6-CF15E7219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31B69-A5DD-4D04-9C02-835544A1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AB196-A978-4C7F-87C3-6CC890FF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C3664-FC23-49F4-A029-30D3637C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0AE29-0E3E-4CA1-97B7-268923A0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CBAB-1804-481F-9248-D1514E5E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9EF9A-0009-44FB-86C9-41DCA228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253A8-A2A0-474C-B36C-BFA3A0F9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13FE0-0D30-47A4-85F1-875C65ED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FB2B1-488F-4153-BCF6-59482BB2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CDE51-C033-4FC8-903D-85E7726B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00B01-7374-48D6-A1C4-5D0F1E6F2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F3281-8E79-457B-9BBC-7C54861F5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9D79C-24C8-46F1-B825-E82955D57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62E2C-0A21-45D6-96C5-1604FE63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95570-9D49-418A-9724-35E9F8F8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924F-DBD6-411B-A0FD-648789C2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EAC69-90B0-4997-8802-2202EA0C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16635-A5E9-4D52-AD08-C1AFABEA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73C5C-3426-45A5-8971-D9C98DF0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7749C-C782-43BA-92DF-66FF801E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B845E-18F1-49D9-8D52-95D1CBD4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5FE2B-87D0-4511-A6F4-3A27E6FE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55F2B-B60F-47DA-B449-0BD74F9B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2F1E3-A082-4050-9B07-0DDA801AE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9328B-B968-40ED-AB88-0469BB40E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75F27-13F6-4DC9-9273-62F60DE85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2EAB-314B-4B29-A53C-E93440FA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6C6CF-8803-4A77-B3DF-93C28632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0094D-8806-4FDB-8905-7ACD16F9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386E4-A5D8-497E-8909-5A2FD2BF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420C0-A7E6-4EFC-87AE-F1F44FFE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2CC5F-6799-4955-9455-87935583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56B3F-C15D-4846-8B1D-1EC7105F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FA3E5-68A7-44BE-B21B-D77176BD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EF634-1D44-429E-A290-7FD5424B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29807-7F0D-4139-9785-DFF7A224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5A240-FE3D-4954-81EA-A8C3BA04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648F-57F2-4C4A-8B1B-F5ABE387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4BDA9-F811-4385-B5CE-AB13E22F0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3B534-A477-4D65-9029-F3BE76F21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3A927-D88F-4732-8EED-B80B00AF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5BDED-200C-4E17-8174-548511F3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95540-3BE6-4D34-B525-859C278E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FE96B-076C-429C-9D16-1C7280B8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9E6B2-1C89-4865-A264-810ECDFD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41158-7998-4FE4-8158-CC8AA33C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F02AC-91CC-4D18-BA19-F621C4B2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A6CD7-8699-4B30-8F16-A26E32AF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682C-4FA2-4B10-8B9D-C6A4F981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3BF31-9181-4067-A7FA-DBE4509C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00522-D566-4E42-96F7-26D628E27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20217-BE86-43CE-9E83-8BC65805B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BE977-C949-4876-8ABA-EB4765423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FC63B-C2C0-4EED-BE35-82880B57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07C7E-23C5-4D70-A80C-D75E6EE0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39A4E-3DBB-498B-9B43-2C78641D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EBFD0-3767-4E96-9C8D-7D9C9393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F64D6-0F85-4292-867D-D78711B2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FF994-6EC3-4EC1-9AAF-53F305DB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5837-51A2-45BE-89E8-F847945F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8B6A5-AB3E-4D1A-9F1A-B5A55365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D6CBD-90BA-4C17-B719-F3297439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630C0-EEE5-4F3D-995B-985106DF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35145-ECE8-4354-8E5A-DF19B1A26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24945-8EEA-4863-8347-EF512F0F3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39ECE-97FD-4EFA-ACB2-3D23412DB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680CA-E4C7-438C-A5D3-578FBF50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876D9-4CAF-4648-95E3-E30AC7D4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ED5A6-5484-4217-BE68-0FA0BDEF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77F26-5BC5-4F26-9DBA-0BEF6D06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75AB-4F97-47D3-BBFE-2D7EA3B7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244B8-21E2-4347-940D-D0FAEC50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68B87-6C27-48E9-BD26-A343AD42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7D0AB-1814-4B57-9DA1-9CCA2CBB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1FB3F-2E4F-4FFF-B64F-4EE4936E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0390A-0A36-4254-A962-9E9DFC51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89E6A-0B6D-4DA1-8B9E-25F81F8C1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03822-B148-4B1B-A877-22CA8DFFA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467C9-2925-4957-9BF8-3DC544824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177B0-A8E1-4CD7-A9E6-8D8BDAE6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EA9CFB-2656-431E-BB56-1584BE23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C8B3-BB6F-4307-8FFC-24FC97703AE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50B3-8771-480B-B60D-00E6AA7C87D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451F-C35B-4C53-B548-6071BF6EB28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4466-A868-40CC-9F76-458943621CB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1F13-66A4-4ABA-80E8-DBF05C0B9E7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B318-3EAC-4FCD-B3BE-199D64E367B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880B-3329-45C7-B049-B31B2028DD0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CE0F-3FFC-4FC2-AE44-28BF624F7C1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15FF-2A18-47B7-962A-964201CB4C5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CE1C-F583-46DB-988A-9FC74662848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162A-8100-4336-9B4E-8F3FC984E47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97C5-85C6-4365-BCD9-EC1AC2E1D3F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67 Môj Kráľ a Pá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, v láske svojej nekonečn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ne chystáš blah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mov večný;</a:t>
            </a:r>
            <a:br>
              <a:rPr sz="4800"/>
            </a:br>
            <a:r>
              <a:rPr b="1" lang="sk-SK" sz="4600" spc="-1" strike="noStrike">
                <a:solidFill>
                  <a:srgbClr val="ffffff"/>
                </a:solidFill>
                <a:latin typeface="Arial"/>
              </a:rPr>
              <a:t>som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600" spc="-1" strike="noStrike">
                <a:solidFill>
                  <a:srgbClr val="ffffff"/>
                </a:solidFill>
                <a:latin typeface="Arial"/>
              </a:rPr>
              <a:t>celkom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600" spc="-1" strike="noStrike">
                <a:solidFill>
                  <a:srgbClr val="ffffff"/>
                </a:solidFill>
                <a:latin typeface="Arial"/>
              </a:rPr>
              <a:t>tvoj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k-SK" sz="4600" spc="-1" strike="noStrike">
                <a:solidFill>
                  <a:srgbClr val="ffffff"/>
                </a:solidFill>
                <a:latin typeface="Arial"/>
              </a:rPr>
              <a:t>už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600" spc="-1" strike="noStrike">
                <a:solidFill>
                  <a:srgbClr val="ffffff"/>
                </a:solidFill>
                <a:latin typeface="Arial"/>
              </a:rPr>
              <a:t>navždy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600" spc="-1" strike="noStrike">
                <a:solidFill>
                  <a:srgbClr val="ffffff"/>
                </a:solidFill>
                <a:latin typeface="Arial"/>
              </a:rPr>
              <a:t>tvoj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40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ôj Kráľ a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tvojej lásky dar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ím sa ti odvďačí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ja ti d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čím prísť pred tvoju tvár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ím svoj dlh zaplatí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svoje srdce, drahý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tvojej prebodnutej dla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i vložiť chcem;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 viem, že smi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ôj Kráľ a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d tebou sklonen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 hriech ti vyznáv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ez teba,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om biedny, straten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šetko je len kl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v tebe moja nádej, spás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jediná si radosť, krás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i žitia cieľ, môj Spas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ôj Kráľ a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tebe ďakuje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všetko, čo smiem mať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spásy pl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krásnu novú z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chceš mi dar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4-13T16:00:28Z</dcterms:modified>
  <cp:revision>21</cp:revision>
  <dc:subject/>
  <dc:title>Je veľký náš Pán, on slávy je Kráľ Nech do všetkých strán  spev vrúcnych znie chvál.</dc:title>
</cp:coreProperties>
</file>